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43D-6BA5-4A56-A9F2-A51BB68D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F3C-8B83-449D-A19A-8B7D2B0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E2B-FE7C-4F5E-890F-9B7F4E9F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CCE-F8EE-4E9F-B311-78329FA5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815E-0D8D-4F43-B054-52C6C31A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5EA6-41E1-455F-893C-E52E173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7D6-7661-4BCC-896B-C2AF7D8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00A-8DEC-4330-930F-1E69582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70F-EE22-464F-B411-DAA1C489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F92-7084-4711-B552-EFE33398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169-3951-4178-B880-63675F2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DC5-2B02-48C5-87C3-47552CA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456A-EFB8-4F1E-9004-F22B847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C9D-C144-4628-B9EC-DDE94A3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37E1-E522-4B1C-81B5-FDC65064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89C4-939A-402B-BC61-653C4CC6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B832-E0B5-4365-B7A8-D0B9A4C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A0B-6BCA-4C05-BD00-E7DCFC13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82E-E7D0-4746-A181-7035325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3C2-EBB2-4375-A17E-65CCF419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AC1-39FD-42CB-A58F-BC26FEA5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01D-F97D-4E25-B63C-0287EA2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434-6CF4-43ED-A35F-6B6ABED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DD0-354A-4C79-92BF-1174681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855D-BE32-4DF8-813C-3E2F8B45B3AA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0AEF-3655-4410-AD81-A12CA8FF5D97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ntom-xp.com/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75600" y="1559520"/>
            <a:ext cx="3828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99cc99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33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6424560"/>
            <a:ext cx="1584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onstantia"/>
              </a:rPr>
              <a:t>Igor &amp; Dzev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2" descr=" Hintergrundbilder · Computer Bilder · Windows XP &#10; MSN Messe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548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ist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yber-Mobb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   </a:t>
            </a:r>
            <a:r>
              <a:rPr b="1" i="1" lang="de-AT" sz="3600" spc="-1" strike="noStrike">
                <a:solidFill>
                  <a:srgbClr val="3366ff"/>
                </a:solidFill>
                <a:latin typeface="Constantia"/>
              </a:rPr>
              <a:t>B</a:t>
            </a:r>
            <a:r>
              <a:rPr b="0" i="1" lang="de-AT" sz="2400" spc="-1" strike="noStrike">
                <a:solidFill>
                  <a:srgbClr val="ff0000"/>
                </a:solidFill>
                <a:latin typeface="Constantia"/>
              </a:rPr>
              <a:t>edrohen, bloßstellen oder beleidigen im Internet oder am Handy. Durch Nachrichten, E-Mail, Sms, Chatrooms, Soziale Netzwerke, Foto- oder Videoplattformen, Handy Kamera, Mailbox oder lästige Anruf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Formen vo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obbing, Bullying – psychische oder körperliche Belästigung durch einzelne oder mehrere Persone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talking – jemanden verfol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G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rooming - Anbahnung sexueller Kontak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H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appy Slapping - Filmen und Verbreiten von Übergriff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Tipps zum Schutz gege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uhig bleib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perre die, die dich belästi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A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ntworte nic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de darüb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lde Proble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chütze deine Privatsphä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V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rtraue 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ratungsste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33cc33"/>
                </a:solidFill>
                <a:latin typeface="Arial"/>
              </a:rPr>
              <a:t>1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47 Rat auf Dra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nder- und Jugendanwaltschaften Öster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chulpsychologische Beratungsstell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amilienberatungsst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O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pfernotru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T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lefonso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sagt das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G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setz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uch die Räumliche Nähe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t dem Opfer re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stellung persönlicher Daten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ontakt mit dem Opfer zu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yber%20bully"/>
          <p:cNvPicPr/>
          <p:nvPr/>
        </p:nvPicPr>
        <p:blipFill>
          <a:blip r:embed="rId1"/>
          <a:stretch/>
        </p:blipFill>
        <p:spPr>
          <a:xfrm rot="20110200">
            <a:off x="971280" y="764640"/>
            <a:ext cx="2519280" cy="17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peg-2hje0051-20081231-img_19942940_onlinebild"/>
          <p:cNvPicPr/>
          <p:nvPr/>
        </p:nvPicPr>
        <p:blipFill>
          <a:blip r:embed="rId2"/>
          <a:stretch/>
        </p:blipFill>
        <p:spPr>
          <a:xfrm rot="954600">
            <a:off x="1476360" y="3789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yberBullyREX_468x366"/>
          <p:cNvPicPr/>
          <p:nvPr/>
        </p:nvPicPr>
        <p:blipFill>
          <a:blip r:embed="rId3"/>
          <a:stretch/>
        </p:blipFill>
        <p:spPr>
          <a:xfrm rot="670800">
            <a:off x="5508360" y="3933720"/>
            <a:ext cx="244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eder+dritte+Jugendliche+wurde+schon+Opfer+von+Cyber-Mobbing+wie+b+%25285765924465%2529"/>
          <p:cNvPicPr/>
          <p:nvPr/>
        </p:nvPicPr>
        <p:blipFill>
          <a:blip r:embed="rId4"/>
          <a:stretch/>
        </p:blipFill>
        <p:spPr>
          <a:xfrm rot="20241000">
            <a:off x="5795640" y="620640"/>
            <a:ext cx="230508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7:15:33Z</dcterms:created>
  <dc:creator>WS011</dc:creator>
  <dc:description/>
  <dc:language>en-US</dc:language>
  <cp:lastModifiedBy>Helly</cp:lastModifiedBy>
  <dcterms:modified xsi:type="dcterms:W3CDTF">2011-03-09T16:41:36Z</dcterms:modified>
  <cp:revision>4</cp:revision>
  <dc:subject/>
  <dc:title>Cyber-Mobbing</dc:title>
</cp:coreProperties>
</file>